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1EC-176F-41EA-80AE-96051F71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EEB-1911-4D7D-A489-0149F6B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2E9-F3B9-4EC0-8397-CD1ED21A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B6F-F135-4B8C-A26E-9D1AAF7E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AB3-BEA7-4269-8C9C-533ECCBF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394-C017-4D58-B910-3EBC45D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1D4-142E-42DA-B887-CE9AE3E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D97-3F90-4515-BCB7-8CC8261E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6B6-776F-47A4-82F5-CD6D16D6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3CE-4628-40D6-B821-6824FD7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E2B-641E-408A-B5A1-DF0282B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793-3883-4C85-8919-B5BB560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386C-7B8E-4F51-BDCF-34643497C2D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11 CuadroTexto"/>
          <p:cNvSpPr/>
          <p:nvPr/>
        </p:nvSpPr>
        <p:spPr>
          <a:xfrm>
            <a:off x="320760" y="324000"/>
            <a:ext cx="44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nexo Fotográfico Lote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12 CuadroTexto"/>
          <p:cNvSpPr/>
          <p:nvPr/>
        </p:nvSpPr>
        <p:spPr>
          <a:xfrm>
            <a:off x="320760" y="2771640"/>
            <a:ext cx="246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1: Corta de Bosque nativo para habilitar c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6 CuadroTexto"/>
          <p:cNvSpPr/>
          <p:nvPr/>
        </p:nvSpPr>
        <p:spPr>
          <a:xfrm>
            <a:off x="333360" y="788508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3: Confección de leña con los árboles cort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7 CuadroTexto"/>
          <p:cNvSpPr/>
          <p:nvPr/>
        </p:nvSpPr>
        <p:spPr>
          <a:xfrm>
            <a:off x="333360" y="54784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2:  </a:t>
            </a:r>
            <a:r>
              <a:rPr b="1" lang="es-CL" sz="1200" spc="-1" strike="noStrike">
                <a:solidFill>
                  <a:srgbClr val="000000"/>
                </a:solidFill>
                <a:latin typeface="Calibri"/>
              </a:rPr>
              <a:t>Remanente de Bosque Na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0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51" name="Picture 15" descr="C:\Users\Ignacio Espina I\Desktop\FISCALIZACION\DENUNCIAS\LOTE B\FOTO2.jpg"/>
          <p:cNvPicPr/>
          <p:nvPr/>
        </p:nvPicPr>
        <p:blipFill>
          <a:blip r:embed="rId1"/>
          <a:stretch/>
        </p:blipFill>
        <p:spPr>
          <a:xfrm>
            <a:off x="2854440" y="739800"/>
            <a:ext cx="3768480" cy="22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Users\Ignacio Espina I\Desktop\FISCALIZACION\DENUNCIAS\LOTE B\FOTO11.jpg"/>
          <p:cNvPicPr/>
          <p:nvPr/>
        </p:nvPicPr>
        <p:blipFill>
          <a:blip r:embed="rId2"/>
          <a:stretch/>
        </p:blipFill>
        <p:spPr>
          <a:xfrm>
            <a:off x="2854440" y="3543480"/>
            <a:ext cx="3768480" cy="22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Users\Ignacio Espina I\Desktop\FISCALIZACION\DENUNCIAS\LOTE B\FOTO15.jpg"/>
          <p:cNvPicPr/>
          <p:nvPr/>
        </p:nvPicPr>
        <p:blipFill>
          <a:blip r:embed="rId3"/>
          <a:stretch/>
        </p:blipFill>
        <p:spPr>
          <a:xfrm>
            <a:off x="2854440" y="6084720"/>
            <a:ext cx="37684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2 CuadroTexto"/>
          <p:cNvSpPr/>
          <p:nvPr/>
        </p:nvSpPr>
        <p:spPr>
          <a:xfrm>
            <a:off x="320760" y="277164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4: Residuos de la co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33360" y="788508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6: Vista del camino resultante de la cor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333360" y="547848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5: Tocones de Ul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1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3" name="Picture 14" descr="C:\Users\Ignacio Espina I\Desktop\FISCALIZACION\DENUNCIAS\LOTE B\FOTO9.jpg"/>
          <p:cNvPicPr/>
          <p:nvPr/>
        </p:nvPicPr>
        <p:blipFill>
          <a:blip r:embed="rId1"/>
          <a:stretch/>
        </p:blipFill>
        <p:spPr>
          <a:xfrm>
            <a:off x="2965320" y="833400"/>
            <a:ext cx="3695760" cy="22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:\Users\Ignacio Espina I\Desktop\FISCALIZACION\DENUNCIAS\LOTE B\FOTO24.jpg"/>
          <p:cNvPicPr/>
          <p:nvPr/>
        </p:nvPicPr>
        <p:blipFill>
          <a:blip r:embed="rId2"/>
          <a:stretch/>
        </p:blipFill>
        <p:spPr>
          <a:xfrm>
            <a:off x="2965320" y="3492360"/>
            <a:ext cx="3695760" cy="221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C:\Users\Ignacio Espina I\Desktop\FISCALIZACION\DENUNCIAS\LOTE B\FOTO22.jpg"/>
          <p:cNvPicPr/>
          <p:nvPr/>
        </p:nvPicPr>
        <p:blipFill>
          <a:blip r:embed="rId3"/>
          <a:stretch/>
        </p:blipFill>
        <p:spPr>
          <a:xfrm>
            <a:off x="3013200" y="6227640"/>
            <a:ext cx="36558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2 CuadroTexto"/>
          <p:cNvSpPr/>
          <p:nvPr/>
        </p:nvSpPr>
        <p:spPr>
          <a:xfrm>
            <a:off x="320760" y="277164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7: Arboles volteados producto de la co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CuadroTexto"/>
          <p:cNvSpPr/>
          <p:nvPr/>
        </p:nvSpPr>
        <p:spPr>
          <a:xfrm>
            <a:off x="333360" y="78850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9: Tocones de Coigue evidencian la corta para despeje de camino cercano a Rio Trancu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CuadroTexto"/>
          <p:cNvSpPr/>
          <p:nvPr/>
        </p:nvSpPr>
        <p:spPr>
          <a:xfrm>
            <a:off x="303120" y="5027760"/>
            <a:ext cx="254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8: Residuos vegetales arrumados a la orilla de faja de despe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5" name="Picture 2" descr="C:\Users\Ignacio Espina I\Desktop\FISCALIZACION\DENUNCIAS\LOTE B\FOTO28.jpg"/>
          <p:cNvPicPr/>
          <p:nvPr/>
        </p:nvPicPr>
        <p:blipFill>
          <a:blip r:embed="rId1"/>
          <a:stretch/>
        </p:blipFill>
        <p:spPr>
          <a:xfrm>
            <a:off x="2944800" y="900000"/>
            <a:ext cx="3727440" cy="223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Ignacio Espina I\Desktop\FISCALIZACION\DENUNCIAS\LOTE B\FOTO26.jpg"/>
          <p:cNvPicPr/>
          <p:nvPr/>
        </p:nvPicPr>
        <p:blipFill>
          <a:blip r:embed="rId2"/>
          <a:stretch/>
        </p:blipFill>
        <p:spPr>
          <a:xfrm>
            <a:off x="2944800" y="3481560"/>
            <a:ext cx="3714840" cy="222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Ignacio Espina I\Desktop\FISCALIZACION\DENUNCIAS\LOTE B\FOTO34.jpg"/>
          <p:cNvPicPr/>
          <p:nvPr/>
        </p:nvPicPr>
        <p:blipFill>
          <a:blip r:embed="rId3"/>
          <a:stretch/>
        </p:blipFill>
        <p:spPr>
          <a:xfrm>
            <a:off x="2951280" y="6114960"/>
            <a:ext cx="3720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0 CuadroTexto"/>
          <p:cNvSpPr/>
          <p:nvPr/>
        </p:nvSpPr>
        <p:spPr>
          <a:xfrm>
            <a:off x="404640" y="755640"/>
            <a:ext cx="620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10: Imagen satelital de la zona de corta predio Lot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Ignacio Espina I\Desktop\FISCALIZACION\DENUNCIAS\LOTE B\TRACK.jpg"/>
          <p:cNvPicPr/>
          <p:nvPr/>
        </p:nvPicPr>
        <p:blipFill>
          <a:blip r:embed="rId1"/>
          <a:stretch/>
        </p:blipFill>
        <p:spPr>
          <a:xfrm>
            <a:off x="404640" y="1332000"/>
            <a:ext cx="6272280" cy="374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Ignacio Espina I\Desktop\FISCALIZACION\DENUNCIAS\LOTE B\TRACK.jpg"/>
          <p:cNvPicPr/>
          <p:nvPr/>
        </p:nvPicPr>
        <p:blipFill>
          <a:blip r:embed="rId2"/>
          <a:stretch/>
        </p:blipFill>
        <p:spPr>
          <a:xfrm>
            <a:off x="404640" y="1332000"/>
            <a:ext cx="6272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54:37Z</dcterms:created>
  <dc:creator>Leonardo Balbontin R</dc:creator>
  <dc:description/>
  <dc:language>en-US</dc:language>
  <cp:lastModifiedBy>Alfredo Mascareño Domke</cp:lastModifiedBy>
  <cp:lastPrinted>2012-05-28T17:19:16Z</cp:lastPrinted>
  <dcterms:modified xsi:type="dcterms:W3CDTF">2020-12-16T11:40:24Z</dcterms:modified>
  <cp:revision>47</cp:revision>
  <dc:subject/>
  <dc:title>Presentación de PowerPoint</dc:title>
</cp:coreProperties>
</file>